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BCC2-27A7-44B7-8EA2-F536802B7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F555-D2DB-4FEE-960D-7FD19FE7A9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A8C6-FAB7-4B61-B5F5-631AE47E0C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F83C-E9B1-4585-BADA-3A4F3E49D5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EB6C-D199-418B-A9C6-4DD184C887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45BC-ADA4-44AA-B9BB-974749C60D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A672-E0A6-45F6-BFD6-2A62B5AB34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7C24-403D-451D-BF83-234DFFCAB3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636C-F97F-453B-B6BE-90E15680A6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2957-2D84-4941-9F03-E7153308E9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FFF8-5B30-4405-B213-45844B35ED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3421-C431-4A08-A592-2285AE94C1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153B-A9A4-4B91-898C-4B068B7C3A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F99E-1C77-4D81-9C05-C0283894CA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E0EF-5761-411C-AF15-5EACA96156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D809-7A68-4F2F-B8FB-260DB22AE8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2E02-7955-4EAB-9083-FB5E3F8E38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F1B6-5317-4989-A129-7B81251536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AD87-80B1-4B7C-8261-69C32B123B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3A52-BA8F-4AAA-B7CD-20BB261F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C2E-1FB1-4EF6-B066-D769919F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86B-0CCE-45F5-A1A6-910C9C5A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AF28-894F-4234-BA4C-87529389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76F5-9E02-48FC-9F82-BA3FE1AC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54A-153A-47EA-92DA-E41C21FA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A81F-30A4-4408-9BBE-A5EB5C99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4C4-0C77-4FFC-9EA9-531C628F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27E-04C5-4D79-95D0-9FE2F34F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674-DBD6-4832-B374-5CEE045F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9AC7-3415-44F8-8A89-2CF541C0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644-322D-4CEC-9E1D-1B4C16EC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9F03-AE7C-4ED7-9BCB-3CFFC34AFE0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12.xml"/><Relationship Id="rId5" Type="http://schemas.openxmlformats.org/officeDocument/2006/relationships/slide" Target="slide5.xml"/><Relationship Id="rId6" Type="http://schemas.openxmlformats.org/officeDocument/2006/relationships/slide" Target="slide14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arts of Speech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y: Georgia Arrud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ED 616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werPoint Present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81FA-EA74-4D90-A568-A28AC1AED14F}" type="datetime">
              <a:rPr b="0" lang="en-US" sz="2800" spc="-1" strike="noStrike">
                <a:solidFill>
                  <a:srgbClr val="ffffff"/>
                </a:solidFill>
                <a:latin typeface="Comic Sans MS"/>
              </a:rPr>
              <a:t>07/28/26</a:t>
            </a:fld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dditional Pronouns Continued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nterrogative Pronou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 interrogative pronoun is used to ask question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who, whom, which, what and the compounds formed with suffix “ever”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895480" y="5257800"/>
            <a:ext cx="10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till More Pronouns!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Demonstrative Pronou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demonstrative pronoun points to and identifies a noun or a pronou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this, that, these, and those are demonstrative pronouns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7" name="Picture 7" descr="762907210"/>
          <p:cNvPicPr/>
          <p:nvPr/>
        </p:nvPicPr>
        <p:blipFill>
          <a:blip r:embed="rId1"/>
          <a:stretch/>
        </p:blipFill>
        <p:spPr>
          <a:xfrm>
            <a:off x="5562720" y="2666880"/>
            <a:ext cx="1752480" cy="182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8" name="Rectangle 8"/>
          <p:cNvSpPr/>
          <p:nvPr/>
        </p:nvSpPr>
        <p:spPr>
          <a:xfrm>
            <a:off x="7772400" y="5257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about the Adjectives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djectiv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An adjective modifies a noun or pronoun by describing, identifying, or qualifying word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US" sz="2200" spc="-1" strike="noStrike">
                <a:solidFill>
                  <a:srgbClr val="ff6666"/>
                </a:solidFill>
                <a:latin typeface="Comic Sans MS"/>
              </a:rPr>
              <a:t>truck-shaped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balloon floated over the treetops.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1" name="Picture 7" descr="Children"/>
          <p:cNvPicPr/>
          <p:nvPr/>
        </p:nvPicPr>
        <p:blipFill>
          <a:blip r:embed="rId1"/>
          <a:stretch/>
        </p:blipFill>
        <p:spPr>
          <a:xfrm>
            <a:off x="685800" y="2895480"/>
            <a:ext cx="3809880" cy="2522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92" name="Rectangle 8"/>
          <p:cNvSpPr/>
          <p:nvPr/>
        </p:nvSpPr>
        <p:spPr>
          <a:xfrm>
            <a:off x="7848720" y="556272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onjunc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te the pizza </a:t>
            </a:r>
            <a:r>
              <a:rPr b="0" lang="en-US" sz="2800" spc="-1" strike="noStrike">
                <a:solidFill>
                  <a:srgbClr val="ff6666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pasta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You can use Conjunctions to link words, phrases, and clause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777240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eposi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Preposi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preposition links nouns, pronouns, and phrases to other words in a sentenc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on, against, over, during, beneath, besid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9" name="Picture 6" descr="1477876604"/>
          <p:cNvPicPr/>
          <p:nvPr/>
        </p:nvPicPr>
        <p:blipFill>
          <a:blip r:embed="rId1"/>
          <a:stretch/>
        </p:blipFill>
        <p:spPr>
          <a:xfrm>
            <a:off x="1600200" y="2895480"/>
            <a:ext cx="1905120" cy="1765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0" name="Rectangle 7"/>
          <p:cNvSpPr/>
          <p:nvPr/>
        </p:nvSpPr>
        <p:spPr>
          <a:xfrm>
            <a:off x="807732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an Interjection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Interjec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 interjection is a word added to a sentence to convey emo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Ouch!, Hey!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3429000" cy="2635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4" name="Rectangle 6"/>
          <p:cNvSpPr/>
          <p:nvPr/>
        </p:nvSpPr>
        <p:spPr>
          <a:xfrm>
            <a:off x="7848720" y="5257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ts of Speech Poem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y Kim Vet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noun’s the name of anything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s house or garden, hoop, or swin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stead of nouns the pronouns stand-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er head, your face, his arm, my hand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djectives tell the kind of noun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s great, small, pretty, white, or brow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erbs tell of something to be done-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o read, count, sing, talk, laugh, or ru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ow things are done the adverbs tell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s slowly, quickly, ill, or well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894800" y="5410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oem Continued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junctions join the words together, As men and women, wind or weath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preposition stands befo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 noun, as in or through a doo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interjection shows surprise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s Oh! How Pretty; Ah! How wise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at’s why we learn the parts of speec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ich reading, writing, speaking teach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use grammar needs to be correct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o help you earn the world’s respect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reated for you by: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orgia Arruda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ords are fun, be creative, explore and encourage freedom of expression with th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mazing wonder of words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" name="Picture 9" descr="j0198327"/>
          <p:cNvPicPr/>
          <p:nvPr/>
        </p:nvPicPr>
        <p:blipFill>
          <a:blip r:embed="rId1"/>
          <a:stretch/>
        </p:blipFill>
        <p:spPr>
          <a:xfrm>
            <a:off x="4800600" y="2590920"/>
            <a:ext cx="3505320" cy="318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3" name="Rectangle 10"/>
          <p:cNvSpPr/>
          <p:nvPr/>
        </p:nvSpPr>
        <p:spPr>
          <a:xfrm>
            <a:off x="777240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What Does Part of Speech Mean?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ach part of speech explains not what the word is but how the word is used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2992320" cy="3505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Eight Parts of Speech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ff00"/>
                </a:solidFill>
                <a:uFillTx/>
                <a:latin typeface="Comic Sans MS"/>
                <a:hlinkClick r:id="rId1" action="ppaction://hlinksldjump"/>
              </a:rPr>
              <a:t>Verb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ff00"/>
                </a:solidFill>
                <a:uFillTx/>
                <a:latin typeface="Comic Sans MS"/>
                <a:hlinkClick r:id="rId2" action="ppaction://hlinksldjump"/>
              </a:rPr>
              <a:t>Nou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ff00"/>
                </a:solidFill>
                <a:uFillTx/>
                <a:latin typeface="Comic Sans MS"/>
                <a:hlinkClick r:id="rId3" action="ppaction://hlinksldjump"/>
              </a:rPr>
              <a:t>Pronou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ff00"/>
                </a:solidFill>
                <a:uFillTx/>
                <a:latin typeface="Comic Sans MS"/>
                <a:hlinkClick r:id="rId4" action="ppaction://hlinksldjump"/>
              </a:rPr>
              <a:t>Adjectiv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ff00"/>
                </a:solidFill>
                <a:uFillTx/>
                <a:latin typeface="Comic Sans MS"/>
                <a:hlinkClick r:id="rId5" action="ppaction://hlinksldjump"/>
              </a:rPr>
              <a:t>Adverb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ff00"/>
                </a:solidFill>
                <a:uFillTx/>
                <a:latin typeface="Comic Sans MS"/>
                <a:hlinkClick r:id="rId6" action="ppaction://hlinksldjump"/>
              </a:rPr>
              <a:t>Prepositi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80ff00"/>
                </a:solidFill>
                <a:uFillTx/>
                <a:latin typeface="Comic Sans MS"/>
                <a:hlinkClick r:id="rId7" action="ppaction://hlinksldjump"/>
              </a:rPr>
              <a:t>Conjunctions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80ff00"/>
                </a:solidFill>
                <a:uFillTx/>
                <a:latin typeface="Comic Sans MS"/>
                <a:hlinkClick r:id="rId8" action="ppaction://hlinksldjump"/>
              </a:rPr>
              <a:t>interjection</a:t>
            </a: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5" name="Picture 7" descr="228927956"/>
          <p:cNvPicPr/>
          <p:nvPr/>
        </p:nvPicPr>
        <p:blipFill>
          <a:blip r:embed="rId9"/>
          <a:stretch/>
        </p:blipFill>
        <p:spPr>
          <a:xfrm>
            <a:off x="5791320" y="3048120"/>
            <a:ext cx="1447560" cy="1157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6" name="Rectangle 8"/>
          <p:cNvSpPr/>
          <p:nvPr/>
        </p:nvSpPr>
        <p:spPr>
          <a:xfrm>
            <a:off x="7696080" y="46483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me P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ore Detail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ch part of speech explains not what the word is, but how the word is used. In fact, the same word can be a noun in one sentence and a verb or adjective in the nex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dverb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Adverb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 adverb can modify a verb, an adjective, another verb, a phrase, or a clau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seamstress </a:t>
            </a:r>
            <a:r>
              <a:rPr b="0" lang="en-US" sz="2400" spc="-1" strike="noStrike">
                <a:solidFill>
                  <a:srgbClr val="ff6666"/>
                </a:solidFill>
                <a:latin typeface="Comic Sans MS"/>
              </a:rPr>
              <a:t>quickl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made the mourning cloth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143000" y="3075120"/>
            <a:ext cx="3352680" cy="253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2" name="Rectangle 7"/>
          <p:cNvSpPr/>
          <p:nvPr/>
        </p:nvSpPr>
        <p:spPr>
          <a:xfrm>
            <a:off x="8077320" y="54594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8001000" y="5334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0ff00"/>
                </a:solidFill>
                <a:uFillTx/>
                <a:latin typeface="Arial"/>
                <a:hlinkClick r:id="rId2" action="ppaction://hlinksldjump"/>
              </a:rPr>
              <a:t>H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et’s Take a Closer Look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Verb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verb “is what you do!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will </a:t>
            </a:r>
            <a:r>
              <a:rPr b="0" lang="en-US" sz="2800" spc="-1" strike="noStrike">
                <a:solidFill>
                  <a:srgbClr val="ff6666"/>
                </a:solidFill>
                <a:latin typeface="Comic Sans MS"/>
              </a:rPr>
              <a:t>ru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6666"/>
                </a:solidFill>
                <a:latin typeface="Comic Sans MS"/>
              </a:rPr>
              <a:t>hop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ff6666"/>
                </a:solidFill>
                <a:latin typeface="Comic Sans MS"/>
              </a:rPr>
              <a:t>skip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down the track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1"/>
          <a:stretch/>
        </p:blipFill>
        <p:spPr>
          <a:xfrm>
            <a:off x="5181480" y="2514600"/>
            <a:ext cx="2175120" cy="304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7" name="Rectangle 10"/>
          <p:cNvSpPr/>
          <p:nvPr/>
        </p:nvSpPr>
        <p:spPr>
          <a:xfrm>
            <a:off x="7772400" y="5181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ff00"/>
                </a:solidFill>
                <a:uFillTx/>
                <a:latin typeface="Arial"/>
                <a:hlinkClick r:id="rId2" action="ppaction://hlinksldjump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ere come the nouns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Nou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noun is a person place or thing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Comic Sans MS"/>
              </a:rPr>
              <a:t>Ms. Arrud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s going to </a:t>
            </a:r>
            <a:r>
              <a:rPr b="0" lang="en-US" sz="2800" spc="-1" strike="noStrike">
                <a:solidFill>
                  <a:srgbClr val="ff6666"/>
                </a:solidFill>
                <a:latin typeface="Comic Sans MS"/>
              </a:rPr>
              <a:t>Vega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this weekend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5105520" y="2438280"/>
            <a:ext cx="2923920" cy="3505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1" name="Rectangle 7"/>
          <p:cNvSpPr/>
          <p:nvPr/>
        </p:nvSpPr>
        <p:spPr>
          <a:xfrm>
            <a:off x="77724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ff00"/>
                </a:solidFill>
                <a:uFillTx/>
                <a:latin typeface="Arial"/>
                <a:hlinkClick r:id="rId2" action="ppaction://hlinksldjump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ronou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Pronou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pronoun can replace the noun or another pronoun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66"/>
                </a:solidFill>
                <a:latin typeface="Comic Sans MS"/>
              </a:rPr>
              <a:t>Whic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how do </a:t>
            </a:r>
            <a:r>
              <a:rPr b="0" lang="en-US" sz="2800" spc="-1" strike="noStrike">
                <a:solidFill>
                  <a:srgbClr val="ff6666"/>
                </a:solidFill>
                <a:latin typeface="Comic Sans MS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want to se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3282840" cy="3136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5" name="Rectangle 7"/>
          <p:cNvSpPr/>
          <p:nvPr/>
        </p:nvSpPr>
        <p:spPr>
          <a:xfrm>
            <a:off x="77724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ff00"/>
                </a:solidFill>
                <a:uFillTx/>
                <a:latin typeface="Arial"/>
                <a:hlinkClick r:id="rId2" action="ppaction://hlinksldjump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52280" y="57150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dditional Pronou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Comic Sans MS"/>
              </a:rPr>
              <a:t>Personal Pronouns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A personal pronoun refers to  specific person or thing and changes its form to indicate person, number, gender, and case.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 algn="ctr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Comic Sans MS"/>
              </a:rPr>
              <a:t>Possessive Personal Pronouns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 possessive pronoun indicates that the pronoun is acting as a marker of possession and defines who owns a particular object or person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mine, yours, hers, his, its, ours their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7848720" y="5410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ff00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1:56:28Z</dcterms:created>
  <dc:creator>college education</dc:creator>
  <dc:description/>
  <dc:language>en-US</dc:language>
  <cp:lastModifiedBy>Mantilla, Yadis</cp:lastModifiedBy>
  <dcterms:modified xsi:type="dcterms:W3CDTF">2016-11-08T14:48:14Z</dcterms:modified>
  <cp:revision>27</cp:revision>
  <dc:subject/>
  <dc:title>Parts of Speech</dc:title>
</cp:coreProperties>
</file>